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4AE9-FB3C-4EF0-8B16-7AF63E30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D66-ADFF-45AF-9487-C950942D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868-BDEB-48C3-A6BA-A982CB8C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26F7-A1F6-47BD-985B-5D4E8574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F477-D74A-4B41-87E1-6DE23C63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CEBA-2F80-487D-B5B3-43D64478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2B08-BA3B-49F9-B1D6-32B72186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087F-3595-4759-982A-1F3B9BFB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00B2-AB64-4495-B92F-5ADEBF33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7866-D62C-41E9-8064-751B0072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44C9-7D42-421D-A272-64E5E8DD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4FF8-44F2-4103-BC36-42726796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A395-393B-4CF4-A70A-FDCF0046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7594-4DB1-4321-B02D-3C8C5E71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39B1-2498-424D-BF6E-C73ED73E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9B96-C460-4D8C-9098-6CFC8FCA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5897-1244-4CD5-A55A-04EDF6D6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14A68-0704-4203-865F-5F69D27F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2A762-5C2D-487A-868B-38BC1706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CBA22-23E6-4C54-B9C1-CC5D7BDB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31189-28ED-44F5-A60D-D7D46A81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618A6-37CF-495D-9A98-91980464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26A-380E-44AC-890B-0385A44B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B96F1-8EB5-4B28-B503-33388277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ED214-8B24-47E7-BBDB-3C5C81E9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A0156-43E7-432A-B11D-9A7389AE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7ACC6-FB17-471E-B4D0-1CD41726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6CD7C-8752-4E94-9AF5-6B642A19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62EC2-1BCB-4F4D-AE17-F7EF4C54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E360F-FFAE-4496-A179-7905BDCC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051A8-D68B-4C81-A6F6-9C7CAD61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3C626-840A-4050-ACD6-7F535C2F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530CA-D8FB-467E-AD86-343D280A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750-933B-4268-A9A3-C57D254C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7E91C-CC61-4834-9CDD-84CD7687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53629-B6B1-4F7F-AEBC-C3115614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64BBE-0F13-45AA-88E2-091D2194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96EAE-6FDE-4A46-BB03-1D1777E5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26062-5DE3-424B-A737-8B9CA8BB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E6BC5-4443-42B4-973C-A1A5140C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72ACA-B038-4D7F-8198-B04EA502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21DBB-BD68-45FE-A49B-F342FB6B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E05E6-C10F-4A71-AD5E-284F0F23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61DBB-3F2D-4786-A61A-269CA99C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8AA2-DF54-4B17-A88C-29642B2D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0CBD3-AE76-40F7-9479-6997ADDD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B8C8C-D962-4CD8-8E4B-91335E4F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BD11B-D8AE-463F-A96F-9CC6A4C6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569BB-B4FF-4346-BD04-2B8250E3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D3525-9C2E-428D-B329-CA5BC70B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D2D7D-606B-4BB4-B023-0CF5E83A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CAF3C-AA2D-4198-B7A6-CA0DC55C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EA878-0C0F-48B0-AC92-1F5AA926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64549-45B8-44ED-977F-9B251486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CED10-01F6-4B96-A292-1528A7E3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29F9-A92C-4A66-BC6C-B25E15A3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3B6E2-3334-4D27-9D61-4A766E27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023C3-36C6-4C8E-8AA7-3543B25E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4B34B-8EAD-4D24-9687-4AA78F01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9F6C4-2D83-49A4-B507-A6B8E075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6D311-0606-4D97-81D9-70116CC3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6215D-02F7-4147-A2B0-AD31D73A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8C07E-6E49-43DC-A2D0-EB3E9240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BDF7F-AEE9-4E7C-B0A6-35DA5955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769FA-DE9C-4D89-B1BE-88D60D2C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CCB64-9CFC-434C-8326-74CF7F19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4CA6-6FC9-42A2-8C40-D8D72833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4A676-CDAA-4A82-9283-083D7CC7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5C8D4-61B9-4610-B3B8-0BC21942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84F0E-6606-4034-9E40-A66BA3D6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F258A-F03C-4A79-827B-F8BB4DAA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E8691-6123-44BB-B04E-7247BF53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49515-05BB-4696-AC1D-0067776F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A7A44-7F98-4F06-9E98-4F53B21D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05173-18A3-4ABA-BAB8-5DAC8CB9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8A580-2BF7-45E1-8B4A-BED0813E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7A981-E799-4128-8A73-D55C3649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E7E2-552E-456C-9443-28B02C0E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7309A-9345-4F04-B278-FF9CA2C7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A7CC0-DC04-4C39-A9C9-A5F4A920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23E39-9DB1-4A05-BAAC-72904461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1AEBB-694B-445F-B5BA-85D10BEC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53117-A89E-4ECA-81A9-52BFC34E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2C9D-A66E-475A-B203-40633121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2B39-EB6D-4BA0-BB1D-2173877686B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5D66-5103-4075-8F06-D93212C5F9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19D3-8CFB-40A6-9FBE-B6A2D3B9C3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4790-8C98-4324-B8A9-6815487002F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EBF5-6EB5-405B-AB50-2D7C1F42AE8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23BB-A361-4A9F-9E40-1CAF52DA7B82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ddddd"/>
                </a:solidFill>
                <a:latin typeface="Verdana"/>
              </a:rPr>
              <a:t>Click to edit the title text format</a:t>
            </a: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0080" indent="-272880"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95400" indent="-228600">
              <a:buClr>
                <a:srgbClr val="969696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216080" indent="-182520">
              <a:buClr>
                <a:srgbClr val="80808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425600" indent="-182520">
              <a:buClr>
                <a:srgbClr val="5f5f5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EA44-2B48-46CF-ACC1-09D15484DBC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duc 25 EDUCATIONAL TECHNOLOGY 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rst Semester, SY 2O10-201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dddddd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blog.taragana.com/wp-content/uploads/2009/02/ms-office.png"/>
          <p:cNvPicPr/>
          <p:nvPr/>
        </p:nvPicPr>
        <p:blipFill>
          <a:blip r:embed="rId1">
            <a:lum bright="46000"/>
          </a:blip>
          <a:stretch/>
        </p:blipFill>
        <p:spPr>
          <a:xfrm>
            <a:off x="4457880" y="167652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306" name="Title 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440"/>
            <a:ext cx="8229600" cy="31021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0070c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ot an end in itself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38120" indent="-318960">
              <a:lnSpc>
                <a:spcPct val="90000"/>
              </a:lnSpc>
              <a:buClr>
                <a:srgbClr val="0070c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Aim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: produce information that will help address the research problem at hand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http://action.walmartwatch.com/page/-/blog/thumbs%20up.jpg"/>
          <p:cNvPicPr/>
          <p:nvPr/>
        </p:nvPicPr>
        <p:blipFill>
          <a:blip r:embed="rId1"/>
          <a:stretch/>
        </p:blipFill>
        <p:spPr>
          <a:xfrm>
            <a:off x="6781680" y="464832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309" name="Title 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 the objectives of the research work well defined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8120" indent="-318960"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type of variables are involved in the study? Are they quantitative or qualitativ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8120" indent="-318960"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the instrument jibe with the objective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533520" y="4060440"/>
            <a:ext cx="8229600" cy="264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00b05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ding of Data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(also data editing, if necessary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8120" indent="-318960">
              <a:buClr>
                <a:srgbClr val="00b05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8120" indent="-318960">
              <a:buClr>
                <a:srgbClr val="00b05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istically adjusting the data (if required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6" descr="http://www.twolia.com/blogs/teacups-and-couture/files/2010/03/richard-stacks-cat-observing-goldfish-in-an-aquarium.jpg"/>
          <p:cNvPicPr/>
          <p:nvPr/>
        </p:nvPicPr>
        <p:blipFill>
          <a:blip r:embed="rId2"/>
          <a:stretch/>
        </p:blipFill>
        <p:spPr>
          <a:xfrm>
            <a:off x="2743200" y="1523880"/>
            <a:ext cx="32767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228240" y="1676160"/>
            <a:ext cx="4040280" cy="4647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11480" indent="-299520">
              <a:buClr>
                <a:srgbClr val="dddddd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The RECTANGULAR ARRAY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686160" indent="-25632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ommonly used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686160" indent="-256320">
              <a:spcBef>
                <a:spcPts val="876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Most efficient form for statistical analysi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644720" y="1698120"/>
            <a:ext cx="4041720" cy="716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ctr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4644720" y="244944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http://www.ekanna.net/wp-content/uploads/2009/02/ekanna_excel_array.png"/>
          <p:cNvPicPr/>
          <p:nvPr/>
        </p:nvPicPr>
        <p:blipFill>
          <a:blip r:embed="rId3"/>
          <a:stretch/>
        </p:blipFill>
        <p:spPr>
          <a:xfrm>
            <a:off x="4572000" y="1752480"/>
            <a:ext cx="4245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6840" y="1774440"/>
            <a:ext cx="8381880" cy="30258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631800" indent="-514440">
              <a:buClr>
                <a:srgbClr val="00206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ad our Sample Proble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925560" indent="-514440">
              <a:spcBef>
                <a:spcPts val="876"/>
              </a:spcBef>
              <a:buClr>
                <a:srgbClr val="00206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Check hypothese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lvl="1" marL="925560" indent="-514440">
              <a:spcBef>
                <a:spcPts val="876"/>
              </a:spcBef>
              <a:buClr>
                <a:srgbClr val="002060"/>
              </a:buClr>
              <a:buSzPct val="9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Verdana"/>
              </a:rPr>
              <a:t>Understand the variable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631800" indent="-514440">
              <a:buClr>
                <a:srgbClr val="00206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31800" indent="-514440">
              <a:buClr>
                <a:srgbClr val="002060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1" name="Picture 2" descr="http://spiderman.psych.purdue.edu/problem_solving/people/images/thinker1-composition5-small2.jpg"/>
          <p:cNvPicPr/>
          <p:nvPr/>
        </p:nvPicPr>
        <p:blipFill>
          <a:blip r:embed="rId2"/>
          <a:stretch/>
        </p:blipFill>
        <p:spPr>
          <a:xfrm>
            <a:off x="6858000" y="4952880"/>
            <a:ext cx="198108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view the questionnai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4" descr="http://ypsh.squarespace.com/storage/ypsh-resources/yp_questionnaire_screen.gif"/>
          <p:cNvPicPr/>
          <p:nvPr/>
        </p:nvPicPr>
        <p:blipFill>
          <a:blip r:embed="rId2"/>
          <a:stretch/>
        </p:blipFill>
        <p:spPr>
          <a:xfrm>
            <a:off x="5029200" y="2438280"/>
            <a:ext cx="4762440" cy="682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440"/>
            <a:ext cx="8229600" cy="1730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3. CODE THE RESPONSE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4. Complete your code sheet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Picture 2" descr="http://www.momsprosperitynetwork.com/wp-content/writing-by-lavinia-marin-compressed.jpg"/>
          <p:cNvPicPr/>
          <p:nvPr/>
        </p:nvPicPr>
        <p:blipFill>
          <a:blip r:embed="rId2"/>
          <a:stretch/>
        </p:blipFill>
        <p:spPr>
          <a:xfrm>
            <a:off x="5486400" y="3733920"/>
            <a:ext cx="32479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8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. TREAT THE DATA (Spreadshee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" descr="http://www.youthchg.com/bulb3.jpg"/>
          <p:cNvPicPr/>
          <p:nvPr/>
        </p:nvPicPr>
        <p:blipFill>
          <a:blip r:embed="rId2"/>
          <a:stretch/>
        </p:blipFill>
        <p:spPr>
          <a:xfrm>
            <a:off x="1981080" y="2514600"/>
            <a:ext cx="507996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David</cp:lastModifiedBy>
  <dcterms:modified xsi:type="dcterms:W3CDTF">2010-07-14T02:27:00Z</dcterms:modified>
  <cp:revision>6</cp:revision>
  <dc:subject/>
  <dc:title>DATA  ANALYSIS</dc:title>
</cp:coreProperties>
</file>